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jeop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CA6-FEB9-4495-8422-97AB0E4F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CA0-127D-4781-950B-5109FEE8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F0B-50CE-4CD8-B564-38D8E527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5C0-8BE0-497C-B889-843F2EDE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FC01-B472-4F2F-982C-7F1F4732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5EB6-F069-4E8A-A202-CA843B40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301-4B1C-450C-8C0A-B35D326E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BB23-D225-48B0-A9C7-6D71EF84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2610-DEC0-487B-B26A-D00E064D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F709-E6DD-49D5-8B77-EE51658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1F73-EF0F-4F5E-A9B7-904AD3EE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D4F-030A-4544-9865-69F704A7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675A-6AF0-45DE-9C9E-4D2C02EB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6CC4-9598-418D-9370-BFD18294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FCE0-AA23-46C6-8204-5B4F335D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70E5-3DFE-4F85-956F-0D7FABF8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3020-2DF2-4F3B-B33D-25775386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3DF-A9CE-447C-B894-03AE4D0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CFC-965E-488D-8E55-C9CD5225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67B-8373-41E4-9554-78F1A725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A33-9EFF-4726-B46B-71C8C421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648-277A-4192-8655-B9ABF37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4C4-06C0-4AEF-A93F-8B1B87F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418-14FB-4FA3-8FD7-EF1C0C7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603E-12E1-4C7A-A2A5-02EA87266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F78-3973-4721-AED4-E5E361DCF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image" Target="../media/image2.png"/><Relationship Id="rId30" Type="http://schemas.openxmlformats.org/officeDocument/2006/relationships/audio" Target="../media/jeop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438280" y="1676520"/>
            <a:ext cx="144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dget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6765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5040" y="16765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9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14400" y="1676520"/>
            <a:ext cx="144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7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576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76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576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576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2576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576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much did you wag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6480" y="2971800"/>
            <a:ext cx="634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12 oz Pepsi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sics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1080" y="2590920"/>
            <a:ext cx="826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conomic problem of unlim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nts and limited resour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6480" y="2514600"/>
            <a:ext cx="438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carcit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5807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plan for spending and saving money during a particular perio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0880" y="2895480"/>
            <a:ext cx="45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budge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4840" y="2438280"/>
            <a:ext cx="560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 individual’s incom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taxes are pai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2819520"/>
            <a:ext cx="526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oss incom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981080"/>
            <a:ext cx="828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llowing expense that is “fixed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) gaso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) teleph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) r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) electric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7040" y="2743200"/>
            <a:ext cx="316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r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7920" y="2514600"/>
            <a:ext cx="77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ces increasing as time goes b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533600"/>
          <a:ext cx="777528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438280" y="1676520"/>
            <a:ext cx="144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dget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16765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5040" y="16765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676520"/>
            <a:ext cx="144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6480" y="274320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nfl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438280"/>
            <a:ext cx="677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you get when you subtra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abilities from asse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59440" y="281952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net worth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0960" y="2467080"/>
            <a:ext cx="801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 credit card company char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you fail to pay your bill on ti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59800" y="2895480"/>
            <a:ext cx="431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late fe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560" y="2514600"/>
            <a:ext cx="800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of moving one credit ca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lance to another credit c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30600" y="2895480"/>
            <a:ext cx="56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alance transf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57680" y="2438280"/>
            <a:ext cx="72338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hat a credit card company charg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hen you carry a balance from one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billing cycle to the next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9880" y="2895480"/>
            <a:ext cx="564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finance charg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Also acceptable: interest.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7680" y="2314440"/>
            <a:ext cx="86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mount of money that you ow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any interest or charges are appli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sics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133720"/>
            <a:ext cx="557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“want” not a “need”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 shel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medic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c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. f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91640" y="2666880"/>
            <a:ext cx="39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incipa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6160" y="259092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actor that includes all the c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repaying the money you borrow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9720" y="2743200"/>
            <a:ext cx="84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nual Percentage Rate (APR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22860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vestment that represents ownership in a compan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2080" y="2819520"/>
            <a:ext cx="40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stock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5320" y="2590920"/>
            <a:ext cx="618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reading your money o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ral different investm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760" y="2971800"/>
            <a:ext cx="50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iversific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35800" y="2514600"/>
            <a:ext cx="69901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he ease with which an investmen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an be turned into cash withou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ignificant loss of value.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0520" y="2666880"/>
            <a:ext cx="41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quidit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1800" y="2590920"/>
            <a:ext cx="728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ortion of a company’s prof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id out to sharehold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11320" y="3179880"/>
            <a:ext cx="33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ca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2400" y="2971800"/>
            <a:ext cx="46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dividen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9400" y="2286000"/>
            <a:ext cx="88689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degree of uncertainty about the expected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return from an investment, including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possibility that some or all of the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investment might be lost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920" y="259092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ris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nking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58400" y="266688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ey that you put into a ban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3120" y="2895480"/>
            <a:ext cx="430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depos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nking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05760" y="2971800"/>
            <a:ext cx="74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ey you take out of the ban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77840" y="3048120"/>
            <a:ext cx="52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withdrawa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nking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8240" y="2895480"/>
            <a:ext cx="674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ney you can earn from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eeping your money in the ban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89120" y="2971800"/>
            <a:ext cx="394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nteres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nking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1640" y="2895480"/>
            <a:ext cx="615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siness deal done, or 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fer of money in or ou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a bank accou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sics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90512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oney Jamal earns from his landscaping business where each week he mows lawns, pulls weeds, and trims hedges. He is paid by the hour.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deb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p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in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. sa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10760" y="3200400"/>
            <a:ext cx="46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transac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nking DAILY DOUBLE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much will you wage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1080" y="2666880"/>
            <a:ext cx="624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oan given to you for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 of buying a hou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4628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628"/>
                            </p:stCondLst>
                            <p:childTnLst>
                              <p:par>
                                <p:cTn id="89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2" dur="123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3" dur="123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5" dur="123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nking DAILY DOUBLE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much did you wage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0840" y="3048120"/>
            <a:ext cx="47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mortgag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133720" y="1981080"/>
            <a:ext cx="489240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efine the components of this formula (</a:t>
            </a: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hint: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It’s the formula for calculating simple interest) </a:t>
            </a: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I = P x R x 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1574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62120" y="28195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 = principal x rate x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7560" y="2819520"/>
            <a:ext cx="428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incom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sics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06840" y="2819520"/>
            <a:ext cx="747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 good or service is wor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7720" y="2514600"/>
            <a:ext cx="350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valu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sics  DAILY DOUBLE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much will you wage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2133720"/>
            <a:ext cx="595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is the better deal – a 20-ounce Pepsi for $2.89 or a 12-ounce Pepsi for $1.59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) the 20-ounce Peps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) the 12-ounce Peps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15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15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115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115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62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628"/>
                            </p:stCondLst>
                            <p:childTnLst>
                              <p:par>
                                <p:cTn id="59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2" dur="123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3" dur="123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5" dur="123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Robert</cp:lastModifiedBy>
  <dcterms:modified xsi:type="dcterms:W3CDTF">2009-07-27T22:09:07Z</dcterms:modified>
  <cp:revision>37</cp:revision>
  <dc:subject/>
  <dc:title>Jeopardy</dc:title>
</cp:coreProperties>
</file>